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8F2C-40AF-44A4-8972-70C4E4457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2EEE-2EC5-48B3-AE5E-EC48D31BF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8FD8-2A15-4D8E-86C7-312392468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D77B-4770-414D-9C9A-0CED6DA9C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A7DB-B1AC-4844-81DF-5359B8807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48B6-C8B3-4055-9CBF-DE2E7C400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F466-2555-4010-B06D-486BDF707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0486-37D6-46DD-BD76-3F4754370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0F18-F130-45E1-B31D-F2ECE24F8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BEC7-3742-49C7-8B74-E96F472AA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260E-6F3B-4D23-8623-C08EB96CF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B079-7970-4A16-8116-6B0F2806D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A9C22-374C-42FF-8529-AB37E85B43E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590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Calibri"/>
              </a:rPr>
              <a:t>Слайд </a:t>
            </a:r>
            <a:fld id="{623AA3BC-C44C-4CE6-B2B2-01BB397F6015}" type="slidenum">
              <a:rPr b="1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МИНИСТЕРСТВО НАУКИ И ВЫСШЕГО ОБРАЗОВАНИЯ РОССИЙСКОЙ ФЕДЕРАЦИИ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Федеральное государственное бюджетное образовательное учреждение высшего образования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«Рязанский государственный радиотехнический университет имени В.Ф. Уткина»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Кафедра промышленной электроник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Заголовок 1"/>
          <p:cNvSpPr/>
          <p:nvPr/>
        </p:nvSpPr>
        <p:spPr>
          <a:xfrm>
            <a:off x="0" y="1557360"/>
            <a:ext cx="914400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Презентация</a:t>
            </a:r>
            <a:br>
              <a:rPr sz="4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 выпускной квалификационной работе</a:t>
            </a:r>
            <a:br>
              <a:rPr sz="20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Тема выпускной квалификационной работ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Заголовок 1"/>
          <p:cNvSpPr/>
          <p:nvPr/>
        </p:nvSpPr>
        <p:spPr>
          <a:xfrm>
            <a:off x="0" y="4292640"/>
            <a:ext cx="91440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бучающийся: студент гр. 723М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етров И.С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уководитель: к.т.н., доцент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идоров А.А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Заголовок 1"/>
          <p:cNvSpPr/>
          <p:nvPr/>
        </p:nvSpPr>
        <p:spPr>
          <a:xfrm>
            <a:off x="0" y="638172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язань, 2019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Номер слайда 5"/>
          <p:cNvSpPr/>
          <p:nvPr/>
        </p:nvSpPr>
        <p:spPr>
          <a:xfrm>
            <a:off x="6553080" y="6356520"/>
            <a:ext cx="2590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Calibri"/>
              </a:rPr>
              <a:t>Слайд </a:t>
            </a:r>
            <a:fld id="{5C9F1F8E-3CB4-4AD5-A050-7566E57F7536}" type="slidenum">
              <a:rPr b="1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Заголовок 1"/>
          <p:cNvSpPr/>
          <p:nvPr/>
        </p:nvSpPr>
        <p:spPr>
          <a:xfrm>
            <a:off x="0" y="11160"/>
            <a:ext cx="91440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Выводы по работе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Номер слайда 5"/>
          <p:cNvSpPr/>
          <p:nvPr/>
        </p:nvSpPr>
        <p:spPr>
          <a:xfrm>
            <a:off x="6553080" y="6356520"/>
            <a:ext cx="2590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Calibri"/>
              </a:rPr>
              <a:t>Слайд </a:t>
            </a:r>
            <a:fld id="{43CCDC1E-EB9E-4A65-9676-7143BAF998EF}" type="slidenum">
              <a:rPr b="1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Заголовок 1"/>
          <p:cNvSpPr/>
          <p:nvPr/>
        </p:nvSpPr>
        <p:spPr>
          <a:xfrm>
            <a:off x="0" y="11160"/>
            <a:ext cx="91440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убликации по работе (для магистров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Заголовок 1"/>
          <p:cNvSpPr/>
          <p:nvPr/>
        </p:nvSpPr>
        <p:spPr>
          <a:xfrm>
            <a:off x="0" y="981000"/>
            <a:ext cx="91440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пробация результатов работы производилась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 2-х конференциях: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Библиографическая ссылка 1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Библиографическая ссылка 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Заголовок 1"/>
          <p:cNvSpPr/>
          <p:nvPr/>
        </p:nvSpPr>
        <p:spPr>
          <a:xfrm>
            <a:off x="0" y="3716280"/>
            <a:ext cx="91440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езультаты работы были опубликованы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2-х научных статьях: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Библиографическая ссылка 1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Библиографическая ссылка 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Номер слайда 5"/>
          <p:cNvSpPr/>
          <p:nvPr/>
        </p:nvSpPr>
        <p:spPr>
          <a:xfrm>
            <a:off x="6553080" y="6356520"/>
            <a:ext cx="2590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Calibri"/>
              </a:rPr>
              <a:t>Слайд </a:t>
            </a:r>
            <a:fld id="{E1918683-4412-4A6E-9F25-8F10D08077DE}" type="slidenum">
              <a:rPr b="1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8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Актуальность работ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Заголовок 1"/>
          <p:cNvSpPr/>
          <p:nvPr/>
        </p:nvSpPr>
        <p:spPr>
          <a:xfrm>
            <a:off x="0" y="3357720"/>
            <a:ext cx="9144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аучная новизна работы (для магистров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Номер слайда 5"/>
          <p:cNvSpPr/>
          <p:nvPr/>
        </p:nvSpPr>
        <p:spPr>
          <a:xfrm>
            <a:off x="6553080" y="6356520"/>
            <a:ext cx="2590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Calibri"/>
              </a:rPr>
              <a:t>Слайд </a:t>
            </a:r>
            <a:fld id="{D30C6F05-3BF9-485F-AB82-0683CD2A97F7}" type="slidenum">
              <a:rPr b="1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Заголовок 1"/>
          <p:cNvSpPr/>
          <p:nvPr/>
        </p:nvSpPr>
        <p:spPr>
          <a:xfrm>
            <a:off x="0" y="0"/>
            <a:ext cx="9144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Цель и задачи работы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Номер слайда 5"/>
          <p:cNvSpPr/>
          <p:nvPr/>
        </p:nvSpPr>
        <p:spPr>
          <a:xfrm>
            <a:off x="6553080" y="6356520"/>
            <a:ext cx="2590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Calibri"/>
              </a:rPr>
              <a:t>Слайд </a:t>
            </a:r>
            <a:fld id="{404EB254-5A82-4695-AA0F-51F7DFF49008}" type="slidenum">
              <a:rPr b="1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10800"/>
            <a:ext cx="9144000" cy="53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Теоретическая часть (кратко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Номер слайда 5"/>
          <p:cNvSpPr/>
          <p:nvPr/>
        </p:nvSpPr>
        <p:spPr>
          <a:xfrm>
            <a:off x="6553080" y="6356520"/>
            <a:ext cx="2590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Calibri"/>
              </a:rPr>
              <a:t>Слайд </a:t>
            </a:r>
            <a:fld id="{B0D2F433-2F77-4929-AE68-C88C83C15B35}" type="slidenum">
              <a:rPr b="1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Заголовок 1"/>
          <p:cNvSpPr/>
          <p:nvPr/>
        </p:nvSpPr>
        <p:spPr>
          <a:xfrm>
            <a:off x="0" y="11160"/>
            <a:ext cx="91440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асчетная часть (кратко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Номер слайда 5"/>
          <p:cNvSpPr/>
          <p:nvPr/>
        </p:nvSpPr>
        <p:spPr>
          <a:xfrm>
            <a:off x="6553080" y="6356520"/>
            <a:ext cx="2590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Calibri"/>
              </a:rPr>
              <a:t>Слайд </a:t>
            </a:r>
            <a:fld id="{26D4AD82-FC0F-4B09-8BA7-39538B9D7F03}" type="slidenum">
              <a:rPr b="1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Заголовок 1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езультаты работы (подробно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Номер слайда 5"/>
          <p:cNvSpPr/>
          <p:nvPr/>
        </p:nvSpPr>
        <p:spPr>
          <a:xfrm>
            <a:off x="6553080" y="6356520"/>
            <a:ext cx="2590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Calibri"/>
              </a:rPr>
              <a:t>Слайд </a:t>
            </a:r>
            <a:fld id="{77DC5391-887B-4D9D-A95B-D944C1012C6E}" type="slidenum">
              <a:rPr b="1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Заголовок 1"/>
          <p:cNvSpPr/>
          <p:nvPr/>
        </p:nvSpPr>
        <p:spPr>
          <a:xfrm>
            <a:off x="0" y="11160"/>
            <a:ext cx="91440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езультаты работы (подробно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Номер слайда 5"/>
          <p:cNvSpPr/>
          <p:nvPr/>
        </p:nvSpPr>
        <p:spPr>
          <a:xfrm>
            <a:off x="6553080" y="6356520"/>
            <a:ext cx="2590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Calibri"/>
              </a:rPr>
              <a:t>Слайд </a:t>
            </a:r>
            <a:fld id="{6E97C193-CFF6-41F1-862D-44FCB25FCD4C}" type="slidenum">
              <a:rPr b="1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Заголовок 1"/>
          <p:cNvSpPr/>
          <p:nvPr/>
        </p:nvSpPr>
        <p:spPr>
          <a:xfrm>
            <a:off x="0" y="11160"/>
            <a:ext cx="91440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езультаты работы (подробно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Номер слайда 5"/>
          <p:cNvSpPr/>
          <p:nvPr/>
        </p:nvSpPr>
        <p:spPr>
          <a:xfrm>
            <a:off x="6553080" y="6356520"/>
            <a:ext cx="2590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Calibri"/>
              </a:rPr>
              <a:t>Слайд </a:t>
            </a:r>
            <a:fld id="{D200A072-D9DA-4F96-82A8-1AE22F1AA278}" type="slidenum">
              <a:rPr b="1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Заголовок 1"/>
          <p:cNvSpPr/>
          <p:nvPr/>
        </p:nvSpPr>
        <p:spPr>
          <a:xfrm>
            <a:off x="0" y="11160"/>
            <a:ext cx="91440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езультаты работы (подробно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6-19T06:13:54Z</dcterms:created>
  <dc:creator>Пользователь Windows</dc:creator>
  <dc:description/>
  <dc:language>en-US</dc:language>
  <cp:lastModifiedBy>ASUS</cp:lastModifiedBy>
  <dcterms:modified xsi:type="dcterms:W3CDTF">2019-06-20T03:33:41Z</dcterms:modified>
  <cp:revision>23</cp:revision>
  <dc:subject/>
  <dc:title>МИНИСТЕРСТВО НАУКИ И ВЫСШЕГО ОБРАЗОВАНИЯ  РОССИЙСКОЙ ФЕДЕРАЦИИ Федеральное государственное бюджетное образовательное учреждение  высшего образования  «Рязанский государственный радиотехнический университет имени В.Ф. Уткина» Кафедра промышленной электроники</dc:title>
</cp:coreProperties>
</file>